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096-2545-4B6F-B97B-672FE580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663-403C-4D90-BDAD-1EA69AA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513-9468-4380-BC11-4DDED7AE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DBD-64EB-44D5-B5D1-C98070A9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B4D-9BC9-4747-B6F4-89E35B7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70D-3E3D-4746-90F3-D775FDBE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A91-385B-4229-B220-4B3CBC6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36E-9A8D-4697-9EF9-8DC4B726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5C1-060E-4FCB-BA36-A2A6838C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E04-541E-4F99-91AD-7858122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C9F-122E-4A5F-8296-5BF1317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FCF-D113-46CE-BD6F-FD4ACB2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79E-6583-4EB0-8AEE-63C2FC12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3:51:48Z</dcterms:created>
  <dc:creator>abeason</dc:creator>
  <dc:description/>
  <dc:language>en-US</dc:language>
  <cp:lastModifiedBy>abeason</cp:lastModifiedBy>
  <dcterms:modified xsi:type="dcterms:W3CDTF">2010-04-08T13:51:52Z</dcterms:modified>
  <cp:revision>1</cp:revision>
  <dc:subject/>
  <dc:title>Slide 1</dc:title>
</cp:coreProperties>
</file>